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13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8CD-A24A-47C9-8A62-ABD8CAA3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425-0E37-46DA-B3F1-0DAEA192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62C-475F-4A95-AE5C-652A0E64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BAB-15CE-4B8D-A436-5E68289B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22DF-5392-4273-8523-9A6563E6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583B-A5A2-4F6E-BCFE-0F4D0708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E0B1-8E3F-4BAC-9607-551A3343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63B5-1E90-489F-A8CA-57776AA1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2D1D-9E00-43DB-9F80-0E6A63BE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2207-04C2-4C29-9563-83DF4386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F9EA-13CB-43C7-AAF2-C2969175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713-3C9E-470C-8FED-D847DE2C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82BB-5FD3-4AEF-BBBF-59F9403F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2EB1-F3B3-41B3-8B52-D62671E4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B9BD-77D5-4299-A08D-8D89D134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5814-FCE5-4833-B072-98AD628D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F4FB-F40F-4187-82EA-792D5CE0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BCA5-6E11-4F8F-A079-19C4A30A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5A51-C6F1-4952-AE46-0496606E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51BA-0339-40F9-A4ED-58853BE1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7C1B-6A0E-444B-BBFB-26B36F37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5327-7A67-464B-8AB4-BB708844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4BD-7C6B-465C-9688-05AE822C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B676-E5D8-4DA6-B81C-093D0F72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D4CF-BA7E-4227-A126-A14BBFA7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9386B-EEB1-4FB6-8B62-D353D706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90E79-AD07-45A6-A5B2-06563F52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35E15-7BAD-4368-8179-E0209D99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7371E-D552-4987-94C2-4D76B9B6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99B14-AB9D-415D-8771-7764B53B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9874E-BD60-4CE0-8BB4-71C6D42D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B2E03-EF51-4DEB-9B26-AB44D7A0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14A60-3692-45FD-95B0-E833AFA9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EA0-C1CD-448C-8F5D-2EE798E3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44F0D-6D55-4DB0-B820-38183EB5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8E8B2-A737-490A-B1D5-14061114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F5DB-93D4-46A0-A3F9-708F569C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7B463-7AB2-439B-AB28-75C702E6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30080-5F35-445F-9A1D-B8B8ACDC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21EAA-331F-43C7-9556-E76832F4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E14A4-A39D-47D7-B09F-78D1108E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486D-8930-4A50-B46F-716E06C2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8572E-1F28-4522-A9C3-A79EAECC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767-17F3-4217-9BA4-A6E49C62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E5B-C220-4CFB-9E99-F08E4067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6E4-3DE3-4E6A-85F4-5DF3190C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410-3856-4BF6-9588-9A890C4B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0BC-1CA2-48DF-A8D6-20CA3AAF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6C18-FE51-4FE6-B112-01DADAA3770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FC18-F6FD-4DC6-97AE-C32928AD9D6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F4FF-08E7-4DD5-9980-765A5BE8ABA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1F0B-A6D1-4DC3-B220-6C3D62E2BB8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opepodkils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U:\oceanography\marine bio\plankton ppt\coccolithophore.jpg"/>
          <p:cNvPicPr/>
          <p:nvPr/>
        </p:nvPicPr>
        <p:blipFill>
          <a:blip r:embed="rId2"/>
          <a:stretch/>
        </p:blipFill>
        <p:spPr>
          <a:xfrm>
            <a:off x="1676520" y="3352680"/>
            <a:ext cx="2720880" cy="229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U:\oceanography\marine bio\plankton ppt\copepod.jpg"/>
          <p:cNvPicPr/>
          <p:nvPr/>
        </p:nvPicPr>
        <p:blipFill>
          <a:blip r:embed="rId3"/>
          <a:stretch/>
        </p:blipFill>
        <p:spPr>
          <a:xfrm>
            <a:off x="0" y="1219320"/>
            <a:ext cx="1650960" cy="1600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U:\oceanography\marine bio\plankton ppt\dinoflag.jpg"/>
          <p:cNvPicPr/>
          <p:nvPr/>
        </p:nvPicPr>
        <p:blipFill>
          <a:blip r:embed="rId4"/>
          <a:stretch/>
        </p:blipFill>
        <p:spPr>
          <a:xfrm>
            <a:off x="4876920" y="3962520"/>
            <a:ext cx="3504960" cy="2101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U:\oceanography\marine bio\plankton ppt\siphonophore 2.jpg"/>
          <p:cNvPicPr/>
          <p:nvPr/>
        </p:nvPicPr>
        <p:blipFill>
          <a:blip r:embed="rId5"/>
          <a:stretch/>
        </p:blipFill>
        <p:spPr>
          <a:xfrm>
            <a:off x="2438280" y="152280"/>
            <a:ext cx="17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U:\oceanography\marine bio\plankton ppt\Cyanobacteria_1.jpg"/>
          <p:cNvPicPr/>
          <p:nvPr/>
        </p:nvPicPr>
        <p:blipFill>
          <a:blip r:embed="rId6"/>
          <a:stretch/>
        </p:blipFill>
        <p:spPr>
          <a:xfrm>
            <a:off x="5867280" y="380880"/>
            <a:ext cx="17002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U:\oceanography\marine bio\plankton ppt\La-Jolla-Red-Tide.jpg"/>
          <p:cNvPicPr/>
          <p:nvPr/>
        </p:nvPicPr>
        <p:blipFill>
          <a:blip r:embed="rId1"/>
          <a:stretch/>
        </p:blipFill>
        <p:spPr>
          <a:xfrm>
            <a:off x="457200" y="1905120"/>
            <a:ext cx="5241960" cy="36828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inoflagellates are also responsible for “red tide”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U:\oceanography\marine bio\plankton ppt\dinflagellates.jpg"/>
          <p:cNvPicPr/>
          <p:nvPr/>
        </p:nvPicPr>
        <p:blipFill>
          <a:blip r:embed="rId2"/>
          <a:stretch/>
        </p:blipFill>
        <p:spPr>
          <a:xfrm>
            <a:off x="4038480" y="3505320"/>
            <a:ext cx="4318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Zooplankton (heterotrophic animals and protists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an be </a:t>
            </a: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holoplankt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(whole life as plankton) or </a:t>
            </a: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meroplankt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(larval forms of </a:t>
            </a: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nekt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U:\oceanography\marine bio\plankton ppt\siphonophore.jpg"/>
          <p:cNvPicPr/>
          <p:nvPr/>
        </p:nvPicPr>
        <p:blipFill>
          <a:blip r:embed="rId1"/>
          <a:stretch/>
        </p:blipFill>
        <p:spPr>
          <a:xfrm>
            <a:off x="5486400" y="380880"/>
            <a:ext cx="3346560" cy="47214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ellyfish and siphon</a:t>
            </a:r>
            <a:r>
              <a:rPr b="0" lang="en-US" sz="5000" spc="-1" strike="noStrike">
                <a:solidFill>
                  <a:srgbClr val="b0dfa1"/>
                </a:solidFill>
                <a:latin typeface="Calibri"/>
              </a:rPr>
              <a:t>opho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2" descr="U:\oceanography\marine bio\plankton ppt\siphonophore 2.jpg"/>
          <p:cNvPicPr/>
          <p:nvPr/>
        </p:nvPicPr>
        <p:blipFill>
          <a:blip r:embed="rId2"/>
          <a:stretch/>
        </p:blipFill>
        <p:spPr>
          <a:xfrm>
            <a:off x="380880" y="1905120"/>
            <a:ext cx="4391280" cy="3792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U:\oceanography\marine bio\plankton ppt\ctenophore.jpg"/>
          <p:cNvPicPr/>
          <p:nvPr/>
        </p:nvPicPr>
        <p:blipFill>
          <a:blip r:embed="rId3"/>
          <a:stretch/>
        </p:blipFill>
        <p:spPr>
          <a:xfrm>
            <a:off x="4343400" y="2666880"/>
            <a:ext cx="257004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Zooflagellates and cilli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2" descr="U:\oceanography\marine bio\plankton ppt\zooflag.jpg"/>
          <p:cNvPicPr/>
          <p:nvPr/>
        </p:nvPicPr>
        <p:blipFill>
          <a:blip r:embed="rId1"/>
          <a:stretch/>
        </p:blipFill>
        <p:spPr>
          <a:xfrm>
            <a:off x="1289160" y="236232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aminifer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cium shells mak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ooz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which makes chalk and limest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U:\oceanography\marine bio\plankton ppt\p-forminifera-m.jpg"/>
          <p:cNvPicPr/>
          <p:nvPr/>
        </p:nvPicPr>
        <p:blipFill>
          <a:blip r:embed="rId1"/>
          <a:stretch/>
        </p:blipFill>
        <p:spPr>
          <a:xfrm>
            <a:off x="2971800" y="25146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diolari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lica shells also contribute to ooz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2" descr="U:\oceanography\marine bio\plankton ppt\radiolarian.jpg"/>
          <p:cNvPicPr/>
          <p:nvPr/>
        </p:nvPicPr>
        <p:blipFill>
          <a:blip r:embed="rId1"/>
          <a:stretch/>
        </p:blipFill>
        <p:spPr>
          <a:xfrm>
            <a:off x="609480" y="2514600"/>
            <a:ext cx="3676680" cy="2771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U:\oceanography\marine bio\plankton ppt\radiolarian skeletons.jpg"/>
          <p:cNvPicPr/>
          <p:nvPr/>
        </p:nvPicPr>
        <p:blipFill>
          <a:blip r:embed="rId2"/>
          <a:stretch/>
        </p:blipFill>
        <p:spPr>
          <a:xfrm>
            <a:off x="5943600" y="457200"/>
            <a:ext cx="2957400" cy="3505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U:\oceanography\marine bio\plankton ppt\radiolarian colony.jpg"/>
          <p:cNvPicPr/>
          <p:nvPr/>
        </p:nvPicPr>
        <p:blipFill>
          <a:blip r:embed="rId3"/>
          <a:stretch/>
        </p:blipFill>
        <p:spPr>
          <a:xfrm>
            <a:off x="4800600" y="3886200"/>
            <a:ext cx="3562200" cy="2325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U:\oceanography\marine bio\plankton ppt\radiolarian_02.jpg"/>
          <p:cNvPicPr/>
          <p:nvPr/>
        </p:nvPicPr>
        <p:blipFill>
          <a:blip r:embed="rId4"/>
          <a:stretch/>
        </p:blipFill>
        <p:spPr>
          <a:xfrm>
            <a:off x="2438280" y="48769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U:\oceanography\marine bio\plankton ppt\ostracod.jpg"/>
          <p:cNvPicPr/>
          <p:nvPr/>
        </p:nvPicPr>
        <p:blipFill>
          <a:blip r:embed="rId1"/>
          <a:stretch/>
        </p:blipFill>
        <p:spPr>
          <a:xfrm>
            <a:off x="6095880" y="3962520"/>
            <a:ext cx="2776680" cy="24476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ustace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ex. Krill and copepod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U:\oceanography\marine bio\plankton ppt\copepod.jpg"/>
          <p:cNvPicPr/>
          <p:nvPr/>
        </p:nvPicPr>
        <p:blipFill>
          <a:blip r:embed="rId2"/>
          <a:stretch/>
        </p:blipFill>
        <p:spPr>
          <a:xfrm>
            <a:off x="457200" y="2590920"/>
            <a:ext cx="3905280" cy="3784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U:\oceanography\marine bio\plankton ppt\krill.jpg"/>
          <p:cNvPicPr/>
          <p:nvPr/>
        </p:nvPicPr>
        <p:blipFill>
          <a:blip r:embed="rId3"/>
          <a:stretch/>
        </p:blipFill>
        <p:spPr>
          <a:xfrm>
            <a:off x="4419720" y="1371600"/>
            <a:ext cx="4419360" cy="1816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U:\oceanography\marine bio\plankton ppt\plankton.jpg"/>
          <p:cNvPicPr/>
          <p:nvPr/>
        </p:nvPicPr>
        <p:blipFill>
          <a:blip r:embed="rId4"/>
          <a:stretch/>
        </p:blipFill>
        <p:spPr>
          <a:xfrm>
            <a:off x="4267080" y="4191120"/>
            <a:ext cx="2135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4617b"/>
                </a:solidFill>
                <a:latin typeface="Calibri"/>
              </a:rPr>
              <a:t>Nekton Larvae</a:t>
            </a:r>
            <a:endParaRPr b="0" lang="en-US" sz="8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Echinoderms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(spiny skin, radial symmetry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Mollusks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(muscle foot, mantle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Arthropods(crustaceans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, jointed foots, exoskeleton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Annelids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(worms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Chordates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(have backbones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chinode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val starfi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2" descr="U:\oceanography\marine bio\plankton ppt\echinolarva.jpg"/>
          <p:cNvPicPr/>
          <p:nvPr/>
        </p:nvPicPr>
        <p:blipFill>
          <a:blip r:embed="rId1"/>
          <a:stretch/>
        </p:blipFill>
        <p:spPr>
          <a:xfrm>
            <a:off x="4025880" y="1219320"/>
            <a:ext cx="51181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ollusk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val octop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2" descr="U:\oceanography\marine bio\plankton ppt\Larval-octopus.jpg"/>
          <p:cNvPicPr/>
          <p:nvPr/>
        </p:nvPicPr>
        <p:blipFill>
          <a:blip r:embed="rId1"/>
          <a:stretch/>
        </p:blipFill>
        <p:spPr>
          <a:xfrm>
            <a:off x="3429000" y="304920"/>
            <a:ext cx="428616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nstantia"/>
              </a:rPr>
              <a:t>They are plankton (organisms that drift)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http://upload.wikimedia.org/wikipedia/commons/thumb/2/28/Copepodkils.jpg/200px-Copepodki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3434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ustace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val barna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2" descr="U:\oceanography\marine bio\plankton ppt\larval barnacle.jpg"/>
          <p:cNvPicPr/>
          <p:nvPr/>
        </p:nvPicPr>
        <p:blipFill>
          <a:blip r:embed="rId1"/>
          <a:stretch/>
        </p:blipFill>
        <p:spPr>
          <a:xfrm>
            <a:off x="3124080" y="1828800"/>
            <a:ext cx="57279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2" descr="U:\oceanography\marine bio\plankton ppt\larval flounder.jpg"/>
          <p:cNvPicPr/>
          <p:nvPr/>
        </p:nvPicPr>
        <p:blipFill>
          <a:blip r:embed="rId1"/>
          <a:srcRect l="0" t="0" r="0" b="8471"/>
          <a:stretch/>
        </p:blipFill>
        <p:spPr>
          <a:xfrm>
            <a:off x="4572000" y="1447920"/>
            <a:ext cx="31496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U:\oceanography\marine bio\plankton ppt\filetPlancton.jpg"/>
          <p:cNvPicPr/>
          <p:nvPr/>
        </p:nvPicPr>
        <p:blipFill>
          <a:blip r:embed="rId1"/>
          <a:stretch/>
        </p:blipFill>
        <p:spPr>
          <a:xfrm>
            <a:off x="2525760" y="2362320"/>
            <a:ext cx="6618240" cy="3790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U:\oceanography\marine bio\plankton ppt\plankton_pumpmooring_84633.jpg"/>
          <p:cNvPicPr/>
          <p:nvPr/>
        </p:nvPicPr>
        <p:blipFill>
          <a:blip r:embed="rId2"/>
          <a:stretch/>
        </p:blipFill>
        <p:spPr>
          <a:xfrm>
            <a:off x="6649920" y="304920"/>
            <a:ext cx="2494080" cy="3429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ans of plankton col</a:t>
            </a:r>
            <a:r>
              <a:rPr b="0" lang="en-US" sz="5000" spc="-1" strike="noStrike">
                <a:solidFill>
                  <a:srgbClr val="06686d"/>
                </a:solidFill>
                <a:latin typeface="Calibri"/>
              </a:rPr>
              <a:t>le</a:t>
            </a:r>
            <a:r>
              <a:rPr b="0" lang="en-US" sz="5000" spc="-1" strike="noStrike">
                <a:solidFill>
                  <a:srgbClr val="5ef0f7"/>
                </a:solidFill>
                <a:latin typeface="Calibri"/>
              </a:rPr>
              <a:t>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U:\oceanography\marine bio\plankton ppt\plankton net.jpg"/>
          <p:cNvPicPr/>
          <p:nvPr/>
        </p:nvPicPr>
        <p:blipFill>
          <a:blip r:embed="rId3"/>
          <a:stretch/>
        </p:blipFill>
        <p:spPr>
          <a:xfrm>
            <a:off x="304920" y="2514600"/>
            <a:ext cx="30556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hytoplankt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utotrophic by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st stay in photic z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ccolithopho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cium carbon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U:\oceanography\marine bio\plankton ppt\coccolithophore.jpg"/>
          <p:cNvPicPr/>
          <p:nvPr/>
        </p:nvPicPr>
        <p:blipFill>
          <a:blip r:embed="rId1"/>
          <a:stretch/>
        </p:blipFill>
        <p:spPr>
          <a:xfrm>
            <a:off x="3657600" y="1981080"/>
            <a:ext cx="507996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U:\oceanography\marine bio\plankton ppt\Cyanobacteria_1.jpg"/>
          <p:cNvPicPr/>
          <p:nvPr/>
        </p:nvPicPr>
        <p:blipFill>
          <a:blip r:embed="rId1"/>
          <a:stretch/>
        </p:blipFill>
        <p:spPr>
          <a:xfrm>
            <a:off x="4068720" y="2209680"/>
            <a:ext cx="5075280" cy="3789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yanobacteria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(a.k.a. blue green algae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es 50-90% of world’s oxyg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hotosynthetic orga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ms can cre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hypox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U:\oceanography\marine bio\plankton ppt\cyanobacteria bloom.jpg"/>
          <p:cNvPicPr/>
          <p:nvPr/>
        </p:nvPicPr>
        <p:blipFill>
          <a:blip r:embed="rId2"/>
          <a:stretch/>
        </p:blipFill>
        <p:spPr>
          <a:xfrm>
            <a:off x="152280" y="3505320"/>
            <a:ext cx="39625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ato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lica sh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U:\oceanography\marine bio\plankton ppt\Diatom group.jpg"/>
          <p:cNvPicPr/>
          <p:nvPr/>
        </p:nvPicPr>
        <p:blipFill>
          <a:blip r:embed="rId1"/>
          <a:stretch/>
        </p:blipFill>
        <p:spPr>
          <a:xfrm>
            <a:off x="685800" y="2514600"/>
            <a:ext cx="2381400" cy="3438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U:\oceanography\marine bio\plankton ppt\diatom frustule.jpg"/>
          <p:cNvPicPr/>
          <p:nvPr/>
        </p:nvPicPr>
        <p:blipFill>
          <a:blip r:embed="rId2"/>
          <a:stretch/>
        </p:blipFill>
        <p:spPr>
          <a:xfrm>
            <a:off x="4114800" y="3808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U:\oceanography\marine bio\plankton ppt\diatom-paint-540x540.jpg"/>
          <p:cNvPicPr/>
          <p:nvPr/>
        </p:nvPicPr>
        <p:blipFill>
          <a:blip r:embed="rId3"/>
          <a:stretch/>
        </p:blipFill>
        <p:spPr>
          <a:xfrm>
            <a:off x="2895480" y="3886200"/>
            <a:ext cx="28069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noflagell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flagella to swim toward l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biolumines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U:\oceanography\marine bio\plankton ppt\dinoflag.jpg"/>
          <p:cNvPicPr/>
          <p:nvPr/>
        </p:nvPicPr>
        <p:blipFill>
          <a:blip r:embed="rId1"/>
          <a:stretch/>
        </p:blipFill>
        <p:spPr>
          <a:xfrm>
            <a:off x="380880" y="2819520"/>
            <a:ext cx="5486400" cy="3289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U:\oceanography\marine bio\plankton ppt\flourescent finoflag.jpg"/>
          <p:cNvPicPr/>
          <p:nvPr/>
        </p:nvPicPr>
        <p:blipFill>
          <a:blip r:embed="rId2"/>
          <a:stretch/>
        </p:blipFill>
        <p:spPr>
          <a:xfrm>
            <a:off x="5551560" y="457200"/>
            <a:ext cx="3363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 can “firefly squid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U:\oceanography\marine bio\plankton ppt\firefly_squid.jpg"/>
          <p:cNvPicPr/>
          <p:nvPr/>
        </p:nvPicPr>
        <p:blipFill>
          <a:blip r:embed="rId1"/>
          <a:stretch/>
        </p:blipFill>
        <p:spPr>
          <a:xfrm>
            <a:off x="1066680" y="2438280"/>
            <a:ext cx="594360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3:07:17Z</dcterms:created>
  <dc:creator>Narragansett School System</dc:creator>
  <dc:description/>
  <dc:language>en-US</dc:language>
  <cp:lastModifiedBy>Narragansett School System</cp:lastModifiedBy>
  <dcterms:modified xsi:type="dcterms:W3CDTF">2009-05-06T15:29:39Z</dcterms:modified>
  <cp:revision>11</cp:revision>
  <dc:subject/>
  <dc:title>What do these organisms have in common?</dc:title>
</cp:coreProperties>
</file>